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824-C6D5-4C85-BDC1-E8F2ECD0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4BC-1C20-4D27-9DBA-9C78704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569-7FD9-47CC-A734-2D946C55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CCF-0242-4BD9-A036-1F3D544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625-8684-407E-AA16-AE314DDC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80C-F1C5-4F23-A9E3-37AFDCF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F2C0-AD72-4626-9F38-BDCA4DC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EB0-AE7D-4D54-AFA6-19500689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B8F4-0599-4D40-8584-48FA1FB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E88B-B67A-4183-8D51-EB067601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80D-BC09-48F6-9E20-154479E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1E6-4EF7-4CE2-8D1B-CA2AA695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C65-D18C-438D-8895-A3F2D71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0488-A1A2-4432-9149-9295AD6E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0040-6BEF-4CED-9451-C439C28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F8C-AD14-4224-A1D1-ABC732B4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FA91-868A-4A85-9F40-E5CFA7E4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7175-EA22-41A2-8DF5-CC561D57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C1D2-2375-467B-84E5-DF958E9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34E0-D7A8-4EE1-BF97-6783B872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50F5-4818-438B-8618-F43E2293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D622-0A1D-4C68-B015-2E7D066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752-D046-4C17-8E27-713FF9B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DAE3-2B0E-4C52-BF1F-154124A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2ACF-A272-4336-A0EE-AA947B67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A955-791A-486D-B884-4605365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7E04-D19A-4408-8076-6DD0F8F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C812-D5B9-4461-9E37-64CC351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E385-7B48-40F3-8944-AFD2E097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EE05-1013-4634-8BC1-8AEFF329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2913-571F-4B95-8BEB-A93DF8A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EDD7-254D-4102-AF68-94DA08F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34B9-BDBA-4913-B3C7-D02A08C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634-7B3C-4EF9-9204-F46E647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36EE-DA0F-40B8-8589-5937942A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28AF-9C30-4F56-A423-6662A6B0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151A-C699-4F10-8E3E-76F9F99C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5909-18D2-4170-B50C-51AE1D1B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79C1-FDB4-480B-894A-2B0E0B6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71F1-8712-4B48-8D54-AD63891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DA8A-5D6F-4AF5-A9A3-4E064FB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8D12-C775-4F1C-A0D6-50AD621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214B-7A7B-4DCF-B8C8-D08C5F8E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D74C-DF02-4AA9-88A5-B9B5473D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346-112D-4393-B9AD-B5C6EBA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DD73-DCE7-48EB-B76F-BAFFFBB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F061-2DED-426E-82F8-D79A0785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D2A5-3681-454A-B800-3A696CC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00D9-DEE3-4CDF-AEB8-3D676AB4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EF9C-F8EC-4FBF-82ED-D4643429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5AA1F-0FBC-4875-BA40-7240E3F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B260-5A0F-4662-A375-1C40F84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DC7F3-7092-4F24-AB0E-04ED163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21DB-E134-4A08-903D-955CD619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0CCC9-2402-4961-9661-AD683474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1B5-09CB-40A1-94AB-455C0F1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0221-5788-4B29-A070-1BB2AD1E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F47-E945-4979-9033-D1A54D8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5C1-A09B-4BCB-80AB-C24E555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4C4-B496-4014-982B-F86C2FD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679C-98C2-4E01-84C5-9FAA58FBEB3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371-CB18-40FD-85F8-46FEBF27C41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FB9B-B719-4A06-B0D5-48BB1BB5CF8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D3B1-FF77-46FA-A3C3-53BA34D27A5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08F-E5DF-4001-B0CB-BB892FC5331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hapter 33 &amp; 34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rowding In, Crowding Out, </a:t>
            </a:r>
            <a:br>
              <a:rPr sz="2000"/>
            </a:b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Phillips Curve, Rational Expec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hy do recessions add to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national debt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in a recession, we use expansionary fiscal policy – which means that G spending increases, taxes decrease, and transfers increase, thus adding to the national deb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http://zfacts.com/metaPage/lib/National-Debt-GDP.gif"/>
          <p:cNvPicPr/>
          <p:nvPr/>
        </p:nvPicPr>
        <p:blipFill>
          <a:blip r:embed="rId1"/>
          <a:stretch/>
        </p:blipFill>
        <p:spPr>
          <a:xfrm>
            <a:off x="609480" y="3657600"/>
            <a:ext cx="4114800" cy="25844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2"/>
          <p:cNvGrpSpPr/>
          <p:nvPr/>
        </p:nvGrpSpPr>
        <p:grpSpPr>
          <a:xfrm>
            <a:off x="5257800" y="3505320"/>
            <a:ext cx="1523880" cy="2532240"/>
            <a:chOff x="5257800" y="3505320"/>
            <a:chExt cx="1523880" cy="2532240"/>
          </a:xfrm>
        </p:grpSpPr>
        <p:grpSp>
          <p:nvGrpSpPr>
            <p:cNvPr id="226" name="Group 10"/>
            <p:cNvGrpSpPr/>
            <p:nvPr/>
          </p:nvGrpSpPr>
          <p:grpSpPr>
            <a:xfrm>
              <a:off x="5257800" y="3505320"/>
              <a:ext cx="1523880" cy="2532240"/>
              <a:chOff x="5257800" y="3505320"/>
              <a:chExt cx="1523880" cy="2532240"/>
            </a:xfrm>
          </p:grpSpPr>
          <p:sp>
            <p:nvSpPr>
              <p:cNvPr id="227" name="TextBox 4"/>
              <p:cNvSpPr/>
              <p:nvPr/>
            </p:nvSpPr>
            <p:spPr>
              <a:xfrm>
                <a:off x="5410080" y="3505320"/>
                <a:ext cx="13716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5"/>
              <p:cNvSpPr/>
              <p:nvPr/>
            </p:nvSpPr>
            <p:spPr>
              <a:xfrm>
                <a:off x="5486400" y="4343400"/>
                <a:ext cx="99072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6"/>
              <p:cNvSpPr/>
              <p:nvPr/>
            </p:nvSpPr>
            <p:spPr>
              <a:xfrm>
                <a:off x="5257800" y="5181840"/>
                <a:ext cx="13716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00"/>
                    </a:solidFill>
                    <a:latin typeface="Verdana"/>
                  </a:rPr>
                  <a:t>Tr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1"/>
            <p:cNvGrpSpPr/>
            <p:nvPr/>
          </p:nvGrpSpPr>
          <p:grpSpPr>
            <a:xfrm>
              <a:off x="6248520" y="3657600"/>
              <a:ext cx="457200" cy="2133720"/>
              <a:chOff x="6248520" y="3657600"/>
              <a:chExt cx="457200" cy="2133720"/>
            </a:xfrm>
          </p:grpSpPr>
          <p:sp>
            <p:nvSpPr>
              <p:cNvPr id="231" name="Up Arrow 7"/>
              <p:cNvSpPr/>
              <p:nvPr/>
            </p:nvSpPr>
            <p:spPr>
              <a:xfrm>
                <a:off x="6248520" y="3657600"/>
                <a:ext cx="457200" cy="533520"/>
              </a:xfrm>
              <a:prstGeom prst="up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Up Arrow 8"/>
              <p:cNvSpPr/>
              <p:nvPr/>
            </p:nvSpPr>
            <p:spPr>
              <a:xfrm>
                <a:off x="6248520" y="5257800"/>
                <a:ext cx="457200" cy="533520"/>
              </a:xfrm>
              <a:prstGeom prst="up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Down Arrow 9"/>
              <p:cNvSpPr/>
              <p:nvPr/>
            </p:nvSpPr>
            <p:spPr>
              <a:xfrm>
                <a:off x="6248520" y="4495680"/>
                <a:ext cx="457200" cy="533520"/>
              </a:xfrm>
              <a:prstGeom prst="downArrow">
                <a:avLst>
                  <a:gd name="adj1" fmla="val 50000"/>
                  <a:gd name="adj2" fmla="val 50015"/>
                </a:avLst>
              </a:prstGeom>
              <a:solidFill>
                <a:srgbClr val="f07f09"/>
              </a:solidFill>
              <a:ln w="4248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952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rowding In &amp; Crowding Ou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rowding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 spending increases AD, RGDP and PL, so D for Money increases, due to P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creases i rates &amp; 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i rates causes a decrease in I spending which lowers 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rowding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mulation in G causes businesses to gain confidence and produce more to take advantage of the growing econom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Up Arrow 3"/>
          <p:cNvSpPr/>
          <p:nvPr/>
        </p:nvSpPr>
        <p:spPr>
          <a:xfrm>
            <a:off x="7543800" y="1447920"/>
            <a:ext cx="228600" cy="304560"/>
          </a:xfrm>
          <a:prstGeom prst="upArrow">
            <a:avLst>
              <a:gd name="adj1" fmla="val 50000"/>
              <a:gd name="adj2" fmla="val 49961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onetizing the Deb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AD shifts right, the SCM shifts the AS curve to the left due to a rise in costs of production, which lowers profitability and 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ed can control i rates using Expansionary Monetary Policy to bring i rates 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will shift AD curve even farther out, increasing the national defic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ed is buying bonds that the gov’t is selling to fund their defic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ed creates money from government’s deb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etizing the debt is more inflationary than non-monetized deb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hillips Curv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Straight Connector 10"/>
          <p:cNvSpPr/>
          <p:nvPr/>
        </p:nvSpPr>
        <p:spPr>
          <a:xfrm>
            <a:off x="2133720" y="2895480"/>
            <a:ext cx="3429000" cy="22860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16"/>
          <p:cNvCxnSpPr/>
          <p:nvPr/>
        </p:nvCxnSpPr>
        <p:spPr>
          <a:xfrm>
            <a:off x="2133720" y="3048120"/>
            <a:ext cx="1296000" cy="9151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grpSp>
        <p:nvGrpSpPr>
          <p:cNvPr id="242" name="Group 23"/>
          <p:cNvGrpSpPr/>
          <p:nvPr/>
        </p:nvGrpSpPr>
        <p:grpSpPr>
          <a:xfrm>
            <a:off x="685800" y="2666880"/>
            <a:ext cx="6858000" cy="3567240"/>
            <a:chOff x="685800" y="2666880"/>
            <a:chExt cx="6858000" cy="3567240"/>
          </a:xfrm>
        </p:grpSpPr>
        <p:sp>
          <p:nvSpPr>
            <p:cNvPr id="243" name="Straight Connector 4"/>
            <p:cNvSpPr/>
            <p:nvPr/>
          </p:nvSpPr>
          <p:spPr>
            <a:xfrm flipH="1">
              <a:off x="1369800" y="2666880"/>
              <a:ext cx="2880" cy="304812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6"/>
            <p:cNvSpPr/>
            <p:nvPr/>
          </p:nvSpPr>
          <p:spPr>
            <a:xfrm>
              <a:off x="1371600" y="5713560"/>
              <a:ext cx="5029200" cy="14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7"/>
            <p:cNvSpPr/>
            <p:nvPr/>
          </p:nvSpPr>
          <p:spPr>
            <a:xfrm rot="16200000">
              <a:off x="194040" y="3690720"/>
              <a:ext cx="13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8"/>
            <p:cNvSpPr/>
            <p:nvPr/>
          </p:nvSpPr>
          <p:spPr>
            <a:xfrm>
              <a:off x="2666880" y="586584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employment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2"/>
            <p:cNvSpPr/>
            <p:nvPr/>
          </p:nvSpPr>
          <p:spPr>
            <a:xfrm>
              <a:off x="3580560" y="2741400"/>
              <a:ext cx="75960" cy="297360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3"/>
            <p:cNvSpPr/>
            <p:nvPr/>
          </p:nvSpPr>
          <p:spPr>
            <a:xfrm>
              <a:off x="3733920" y="2742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Long r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4"/>
            <p:cNvSpPr/>
            <p:nvPr/>
          </p:nvSpPr>
          <p:spPr>
            <a:xfrm>
              <a:off x="5486400" y="49514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hort R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17"/>
            <p:cNvSpPr/>
            <p:nvPr/>
          </p:nvSpPr>
          <p:spPr>
            <a:xfrm rot="2164200">
              <a:off x="1566720" y="3479040"/>
              <a:ext cx="208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ntractionary Poli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Straight Arrow Connector 19"/>
            <p:cNvCxnSpPr/>
            <p:nvPr/>
          </p:nvCxnSpPr>
          <p:spPr>
            <a:xfrm flipH="1" flipV="1">
              <a:off x="3733560" y="3883680"/>
              <a:ext cx="1676880" cy="1143720"/>
            </a:xfrm>
            <a:prstGeom prst="straightConnector1">
              <a:avLst/>
            </a:prstGeom>
            <a:ln w="9360">
              <a:solidFill>
                <a:srgbClr val="ff8000"/>
              </a:solidFill>
              <a:miter/>
              <a:tailEnd len="med" type="arrow" w="med"/>
            </a:ln>
          </p:spPr>
        </p:cxnSp>
        <p:sp>
          <p:nvSpPr>
            <p:cNvPr id="252" name="TextBox 20"/>
            <p:cNvSpPr/>
            <p:nvPr/>
          </p:nvSpPr>
          <p:spPr>
            <a:xfrm rot="2097000">
              <a:off x="3688200" y="4295160"/>
              <a:ext cx="232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xpansionary Poli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ight Arrow 21"/>
            <p:cNvSpPr/>
            <p:nvPr/>
          </p:nvSpPr>
          <p:spPr>
            <a:xfrm rot="10800000">
              <a:off x="3657240" y="5334120"/>
              <a:ext cx="685800" cy="29520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2"/>
            <p:cNvSpPr/>
            <p:nvPr/>
          </p:nvSpPr>
          <p:spPr>
            <a:xfrm>
              <a:off x="4419720" y="533268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atural Rate of Unem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5" name="Straight Arrow Connector 22"/>
          <p:cNvCxnSpPr/>
          <p:nvPr/>
        </p:nvCxnSpPr>
        <p:spPr>
          <a:xfrm flipV="1">
            <a:off x="2514600" y="2894760"/>
            <a:ext cx="991440" cy="229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6" name="TextBox 23"/>
          <p:cNvSpPr/>
          <p:nvPr/>
        </p:nvSpPr>
        <p:spPr>
          <a:xfrm>
            <a:off x="26712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25"/>
          <p:cNvCxnSpPr/>
          <p:nvPr/>
        </p:nvCxnSpPr>
        <p:spPr>
          <a:xfrm flipH="1">
            <a:off x="3733560" y="4799520"/>
            <a:ext cx="1219680" cy="229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8" name="TextBox 26"/>
          <p:cNvSpPr/>
          <p:nvPr/>
        </p:nvSpPr>
        <p:spPr>
          <a:xfrm>
            <a:off x="4042800" y="472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60480" y="3733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ructural Defici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088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 deficit would look if we were 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ll employ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gov’t receives as muc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ax revenu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expecte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end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nly as much as exp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Costs of Closing Recessionary/Inflationary Gap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Expansionary Fiscal Policy during a rec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deficit – Increases G spending, decreases taxes, increases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ontractionary Fiscal Policy during an 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G spending, increases taxes, decreases transfers, which DECREASES THE DEFICIT and BALANCES THE BUDG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ational Expecta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560" y="533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ecasts that are the best that can be made given the available data, not necessarily corr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correct, short run PC is vertica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tion can be produced without the need for high unemploy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Keynesians and Liberals want to fight unemployme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lieve AD and SR PC curve is fl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employment is more costly than inf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ctations react sluggishly, SCM is unreliable and sl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ational Expecta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0663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Rational Expectation Adherent and Conservatives are more eager to fight inf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AD and SR PC is ste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ation more costly than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s on region of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ctations react quick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M works smoothly and rapid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3:49Z</dcterms:created>
  <dc:creator>sth_user</dc:creator>
  <dc:description/>
  <dc:language>en-US</dc:language>
  <cp:lastModifiedBy>HP Authorized Customer</cp:lastModifiedBy>
  <dcterms:modified xsi:type="dcterms:W3CDTF">2009-01-27T22:33:25Z</dcterms:modified>
  <cp:revision>8</cp:revision>
  <dc:subject/>
  <dc:title>Chapter 33 &amp; 34</dc:title>
</cp:coreProperties>
</file>